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123-C8EB-4F9B-BC40-714DED42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B35-398F-4CA2-A7D2-6C9AFD6A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040-E38A-49DA-BEA0-CEBD3F4E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888-D35D-44A1-B203-AD6D8ED3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47C-5AAC-4706-95E8-D8B02653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DFB-8C92-4EDB-BEC9-F8C3108A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500-60FB-48BD-860C-5160070F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035-896B-4060-B8BF-33924CA7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C21-3F3E-4FC2-A2C5-42EA9861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F12-0B4E-4916-A5FE-F5ADE94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93B-C34D-42B9-B24E-CE5133F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E4D-4CC7-4212-947F-E8C957BE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EBA6-FD73-4209-9F6E-88A19D910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su.edu/dept/dap/StyleGuide/Images/c_ov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6720" y="199980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Palatino Linotype"/>
              </a:rPr>
              <a:t>PSYCHOLOGY</a:t>
            </a:r>
            <a:br>
              <a:rPr sz="4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(9th Edi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avid M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4880" y="4114800"/>
            <a:ext cx="48276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PowerPoint Sl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Aneeq Ahm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Henderson State Univers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th Publishers, ©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29000" y="5315040"/>
            <a:ext cx="484200" cy="55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08C-ED93-4FD2-A84C-1D2AB730C8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bfields of Psych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036800"/>
          <a:ext cx="7772400" cy="5709960"/>
        </p:xfrm>
        <a:graphic>
          <a:graphicData uri="http://schemas.openxmlformats.org/drawingml/2006/table">
            <a:tbl>
              <a:tblPr/>
              <a:tblGrid>
                <a:gridCol w="2662200"/>
                <a:gridCol w="511020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sycholog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at she/he do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Neuropsycholog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the relationship between neurological processes and behav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sychometric &amp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Quantit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methods and techniques used to acquire psychological knowled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Rehabilit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orks with people with loss of functioning to restore some or all of 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cho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ssesses and intervenes with children in school set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oc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our interactions with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por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the factors involved in physical activities to apply it to everyday knowled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DA1-83AE-4384-A636-9F81519E08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eparing Early for Graduate Study in Psyc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362320"/>
            <a:ext cx="51814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ecome involved in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olunteer in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Get good gr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udy and take the G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BD4C-F218-498C-BF2A-A01B67C87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9280" y="2224080"/>
            <a:ext cx="768168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Careers in Psychology </a:t>
            </a: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Appendix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44144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C42-9FE3-4804-B51D-B2F648D93B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areers in Psycholo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90840" y="1595520"/>
            <a:ext cx="59385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reparing for a Career in Psych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Bachelor’s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2664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stgraduate Deg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667-D4A1-499E-AD2B-27AEF10A48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areers in Psycholo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625788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Subfields of Psych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84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Palatino Linotype"/>
              </a:rPr>
              <a:t>Preparing Early for Graduate Study in Psych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CC7-F31D-44BF-88EE-73C59DC824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reparing for a Career in Psyc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2743200"/>
            <a:ext cx="7010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alatino Linotype"/>
              </a:rPr>
              <a:t>As th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alatino Linotype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Palatino Linotype"/>
              </a:rPr>
              <a:t> most popular college major in the U.S., psychology prepares students for a vast array of job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40E-133C-4D36-B675-E725A589EB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Bachelor’s Deg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752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sychology undergraduates offer important skills which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3124080"/>
            <a:ext cx="5486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terpersonal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llingness to learn new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daptability 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ritical-thin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roblem-solv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C9F-9ED7-4E9E-8F58-8E2E5B828E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ostgraduate Deg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133720"/>
            <a:ext cx="777240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The Master’s Degre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2+ years of graduate study in a subfield of psychology and an internship &amp;/or 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alatino Linotype"/>
              </a:rPr>
              <a:t>Doctoral Degrees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5-7 years of graduate study in a subfield of psychology and to ear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Ph.D. (doctor of philosophy), completion of a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sser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Psy.D. (doctor of psychology), completion of clinical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ork and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FFD-DCA3-4D0B-9CA7-506E635DAB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ubfields of Psych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772400" cy="4494240"/>
        </p:xfrm>
        <a:graphic>
          <a:graphicData uri="http://schemas.openxmlformats.org/drawingml/2006/table">
            <a:tbl>
              <a:tblPr/>
              <a:tblGrid>
                <a:gridCol w="2662200"/>
                <a:gridCol w="5110200"/>
              </a:tblGrid>
              <a:tr h="892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sycholog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at she/he do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linical (licensed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, assesses, and treats people with psychological disord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g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how we perceive, think, and solve proble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mmun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nhances environmental setting to improve individual func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unsel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Helps with adjustment problems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Developmen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onducts &amp; applies research in age-related behavioral chang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6B4-CE62-480B-805E-9474D8AF0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ubfields of Psych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447920"/>
          <a:ext cx="7772400" cy="5249880"/>
        </p:xfrm>
        <a:graphic>
          <a:graphicData uri="http://schemas.openxmlformats.org/drawingml/2006/table">
            <a:tbl>
              <a:tblPr/>
              <a:tblGrid>
                <a:gridCol w="2662200"/>
                <a:gridCol w="5110200"/>
              </a:tblGrid>
              <a:tr h="80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Psycholog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What she/he do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ducatio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relationships between learning and environm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xperimental (research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vestigates a variety of behavioral processes in humans and anim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Heal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ocuses on health promotion and disease preven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4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orens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Applies psychological principles in the areas of research, policy, and law enforc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ndustrial/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Organizational (I/O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ies the relationship between people and their work environm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AF0-A240-4A7A-9519-BA469544D2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0:32:17Z</dcterms:created>
  <dc:creator>HSU </dc:creator>
  <dc:description/>
  <dc:language>en-US</dc:language>
  <cp:lastModifiedBy>HBPUB</cp:lastModifiedBy>
  <dcterms:modified xsi:type="dcterms:W3CDTF">2008-12-16T17:31:01Z</dcterms:modified>
  <cp:revision>773</cp:revision>
  <dc:subject/>
  <dc:title>Memory</dc:title>
</cp:coreProperties>
</file>